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B237C-005C-4396-8A39-DD2DB0F42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A4304-C9D8-4DF4-B922-F94633C1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BFFE6-B6FB-4C04-A49E-0F3E172E0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A1CE7-CD4B-4B51-9024-429FAF847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FF9C8-4A23-40CA-AB85-DC25864E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0D8FB-6D09-40BE-B3C7-C3395177D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9A6D9-AE5C-49B1-A705-5C199191D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E6FC9-5DDA-4231-A60C-738766FF3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19EF3-F51D-419C-AF00-27B978B97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5BEA-35EF-4FD7-BC4E-2169B9780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8E5F3-57FE-4377-8BCF-FC2B8B2F4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C299-446B-4653-8EBF-F05E5BB3E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E12BC61F-5438-477C-BEDD-FAD182B1358C}" type="datetime">
              <a:rPr b="0" lang="en-US" sz="5500" spc="-1" strike="noStrike">
                <a:solidFill>
                  <a:srgbClr val="898989"/>
                </a:solidFill>
                <a:latin typeface="Calibri"/>
              </a:rPr>
              <a:t>07/29/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4D6FC985-5C1B-4383-942A-394908113D4A}"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